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BEC-0759-4D82-9170-95790A82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4DE-E11D-470A-916A-62FE13B7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276-09CC-45C8-A68D-D8A7516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65C-6D8B-4F94-A3B4-24A98CC1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161-29AE-4DC2-968B-F366E88C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E13-53BC-42A1-82F0-8BAAB6D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577-E6A8-4BB3-92EE-01C01E1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442-6277-4E3C-B853-211AFC7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E1F-6CF2-481B-B1DF-61A4EA3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C09-F556-431B-9A8F-75368AB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C53-4FE6-4D58-A30A-169AFB1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E8A-3452-4A4A-96E3-BB613CE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6FE-0525-40D7-9F1F-D201FD2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80DB-DE6D-423D-885B-675D7BB7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 to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s T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’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can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this is less harmful because it isn’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aused by the wrong number of chromosom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(mutations) in the genetic information carri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and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are born with   trisomy 13 and 1 in 5000 are born   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they produce less than normal amounts of testosterone and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 and do not undergo normal puberty changes unless they are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, experience normal puberty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, have normal sexual development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, though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3-01-09T03:10:56Z</dcterms:modified>
  <cp:revision>156</cp:revision>
  <dc:subject/>
  <dc:title>Genetic Processes</dc:title>
</cp:coreProperties>
</file>